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C10C-9132-4992-A4F2-CEFACE58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E726-CDDB-4AFD-A8B3-6FA57E4C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17FF-39D2-4750-8A61-15CB976B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7DBF-2A90-471F-9128-058D454A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8A37-9804-4A57-8B82-C4CF6121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BDAD-ED56-493B-AFE2-6B6BAFC9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FEFD-B717-4B0D-A5B6-523957E1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6555-705B-4DE8-BB90-9C4B072B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0B08-C65F-4A71-8533-012ECE66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A646-D6D7-4DFF-B014-7A659495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2CA2-20C5-43A7-B4F7-DB9249EC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C0E8-B96C-4AC0-8530-31FC024E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95ED-1D83-4962-936E-4612471C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BB8C-9417-4815-99C3-CB36EE9C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BF0F-6F49-456F-83CD-00156897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C362-8C71-4CBC-8CD5-7992F050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9A0D-D960-4B61-91AC-F2E73712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1A2-CB8C-4467-B12F-A18CC566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EEF4-E625-4FEE-B7C9-A60731D2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EFF-7EF3-40BB-9A55-5F8C7523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9744-7E73-4F0E-A8AA-AFB017CD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B11A-5056-45CD-A0C2-B3B72B16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3BA1-A518-41D8-9DA2-E94B2152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638-3296-4B37-93B3-4AB73012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0F93-5C94-40DD-A4BC-DCB683300B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DAF3-FE36-484F-A1C7-33D2DCD6B9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Go Tell The Good News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art 2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rter 12, Lesson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 of 1 Corinthians 8-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s 143-1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4190-762A-45BF-9935-EB8755275498}" type="slidenum">
              <a:t>1</a:t>
            </a:fld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different gifts, but the same Spir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different activities, but the same God who works all in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gifts are given individually by the Spirit for the profit of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d has set function and abilities of different kinds in the church and they are not in competition with each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CB15-7C28-4FFB-8E8E-D5AFBC2B884B}" type="slidenum">
              <a:t>10</a:t>
            </a:fld>
          </a:p>
        </p:txBody>
      </p:sp>
    </p:spTree>
  </p:cSld>
  <p:transition>
    <p:comb dir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one Spirit we were all baptized into one body, but the body is not one member but m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nestly desire the best gifts, yet love is a more excellent 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ever gift we might have, even if we give our bodies to be burned and don’t have love, we are not profi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ve never fails, spiritual gifts will c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0B6-B9A7-4C48-8BD0-A7BFE95D5FAA}" type="slidenum">
              <a:t>11</a:t>
            </a:fld>
          </a:p>
        </p:txBody>
      </p:sp>
    </p:spTree>
  </p:cSld>
  <p:transition>
    <p:comb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at which is perfect is come, then that which is in part will be done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will abide faith, hope and love, but the greatest of these is l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k to edify, to teach by your g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orderly, God is not the source of con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the women be silent (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ot taking a public ro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) in the assemb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DBA3-045E-4C15-BE81-5C91E5CDAAE6}" type="slidenum">
              <a:t>12</a:t>
            </a:fld>
          </a:p>
        </p:txBody>
      </p:sp>
    </p:spTree>
  </p:cSld>
  <p:transition>
    <p:comb dir="ver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teach there is no resu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re is no resurrection from the dead then Christ is not ri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Christ is not risen, then preaching is vain and faith is vain and all are still in s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ist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isen and has become the firstfruits of those who have d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ist will reign until all enemies are destroyed and the last enemy destroyed is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F40-E0F7-40C3-ABAE-E2073C7D3644}" type="slidenum">
              <a:t>13</a:t>
            </a:fld>
          </a:p>
        </p:txBody>
      </p:sp>
    </p:spTree>
  </p:cSld>
  <p:transition>
    <p:comb dir="ver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cerning the collection for the sai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first day of the week let each one of you lay something a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 as you have been prosp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al exhor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ch, stand fast in the faith, be brave, be str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 all that you do be done with l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5BB3-DA8B-4AC1-A206-B67E7C20D48B}" type="slidenum">
              <a:t>14</a:t>
            </a:fld>
          </a:p>
        </p:txBody>
      </p:sp>
    </p:spTree>
  </p:cSld>
  <p:transition>
    <p:comb dir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5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0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3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6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A8C3-D74E-4BE1-9E0D-2BBADB4F92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rning things offered to idol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have knowledge but it can puff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ve edifies and seeks to do what is good for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idol is a god, it is nothing and there is no other God but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t sacrificed to idols is not contamin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what about the weak broth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0E9-CCD7-45B2-B873-B21C8477E115}" type="slidenum">
              <a:t>3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the right to eat meat sacrificed to idols cause another to defile his conscien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ware lest our liberty cause a weak brother to stum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states, “if food makes my brother stumble, I will never again eat meat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said that he had “rights”, but he hadn’t used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sked, am I not an apostle? Am I not free? Are you not my work in the Lord? Do we have no right to eat and drin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3663-FA5E-4C41-BF43-0810C7D224A9}" type="slidenum">
              <a:t>4</a:t>
            </a:fld>
          </a:p>
        </p:txBody>
      </p:sp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had lived in whatever style necessary in order to convert men to chr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 your goal and strive for a c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trive for a perishable crown, but we for an imperishable 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: “I discipline my body and bring it into subjection lest I myself should become disqualified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Jewish fathers were baptized into Moses, all ate the same spiritual food and drank the same spiritual drink ,yet most of them displeased G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example is our w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AEA7-1890-43E4-85E8-13D5B95AA221}" type="slidenum">
              <a:t>5</a:t>
            </a:fld>
          </a:p>
        </p:txBody>
      </p:sp>
    </p:spTree>
  </p:cSld>
  <p:transition>
    <p:zoom dir="in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become idolaters, do not commit sexual immorality, do not tempt Chr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him who thinks he stands take heed lest he 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e idolatry and judge for yourselves, the cup of blessing , is it not the communion of the blood of Christ? The bread which we break, is it not the communion of the body of Chri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not be joined to the Lord and to the Devil at the sam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B380-A055-46F3-8907-853BA7221535}" type="slidenum">
              <a:t>6</a:t>
            </a:fld>
          </a:p>
        </p:txBody>
      </p:sp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ings that are lawful may not be helpful or edif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offered meat without comment, eat it ,but if told it was offered to idols, don’t eat it for the sake of the one who told you and for conscience’ s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itate Paul just as he also imitated Chr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47E-2836-4A9E-8B43-CEB0387E6B1A}" type="slidenum">
              <a:t>7</a:t>
            </a:fld>
          </a:p>
        </p:txBody>
      </p:sp>
    </p:spTree>
  </p:cSld>
  <p:transition>
    <p:checker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ad cove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 is head over man and man is head over wo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man who prays or prophesies with his head covered dishonors his h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woman who prays or prophesies with her head uncovered dishonors her h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 is the image and glory of God, but woman is the glory of 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6B03-5139-48FB-A77E-EE47A0088296}" type="slidenum">
              <a:t>8</a:t>
            </a:fld>
          </a:p>
        </p:txBody>
      </p:sp>
    </p:spTree>
  </p:cSld>
  <p:transition>
    <p:checker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ake of the Lord’s supper with proper rev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make it a common m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are hungry, eat and drink in your own hous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partaking of the Lord’s supper, wait for one an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read represents Christ’s body and the cup represents Christ’s bl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must eat and drink in a worthy manner discerning the Lord’s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10E5-1593-483C-9F5E-FA4096A3E679}" type="slidenum">
              <a:t>9</a:t>
            </a:fld>
          </a:p>
        </p:txBody>
      </p:sp>
    </p:spTree>
  </p:cSld>
  <p:transition>
    <p:comb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05:56:07Z</dcterms:created>
  <dc:creator>billy lauderdale</dc:creator>
  <dc:description/>
  <dc:language>en-US</dc:language>
  <cp:lastModifiedBy>billy lauderdale</cp:lastModifiedBy>
  <dcterms:modified xsi:type="dcterms:W3CDTF">2006-12-21T22:05:11Z</dcterms:modified>
  <cp:revision>31</cp:revision>
  <dc:subject/>
  <dc:title>Go Tell The Good News Part 2</dc:title>
</cp:coreProperties>
</file>